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01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9" name="logo1" descr=""/>
          <p:cNvPicPr/>
          <p:nvPr/>
        </p:nvPicPr>
        <p:blipFill>
          <a:blip r:embed="rId2"/>
          <a:stretch/>
        </p:blipFill>
        <p:spPr>
          <a:xfrm>
            <a:off x="7772400" y="5791320"/>
            <a:ext cx="1190520" cy="89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3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4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2" name="logo1" descr=""/>
          <p:cNvPicPr/>
          <p:nvPr/>
        </p:nvPicPr>
        <p:blipFill>
          <a:blip r:embed="rId2"/>
          <a:stretch/>
        </p:blipFill>
        <p:spPr>
          <a:xfrm>
            <a:off x="7772400" y="5791320"/>
            <a:ext cx="1190520" cy="8935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66680" y="152280"/>
            <a:ext cx="784872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QUM – Aged Ca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2" name="logo1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43149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TACC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curat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rapy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te to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mmunity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Medication Safety Breakthrough Collaborative </a:t>
            </a:r>
            <a:br>
              <a:rPr sz="2800"/>
            </a:b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Wave 2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066680" y="5715000"/>
          <a:ext cx="2743200" cy="80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715000"/>
                    <a:ext cx="274320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5784840" y="5181480"/>
            <a:ext cx="13842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The Tea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616040" y="2214720"/>
            <a:ext cx="634536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The Tea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aren Puvogel : Co-ordinator /Nursing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linda Loveless:  Co-ordinator / Communit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therine McKenna: Executive &amp; D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mille Schubert/ Denise Jeffs: Pharmac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llian Wilkinson: Quality Manag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rk Morton: Medical Consulta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The National Safety Breakthrough Collaborative has been established to develop and drive a “platform for action” to accelerate improvements in medication safety for patients in Australi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Multiple teams throughout Australi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Sharing project ideas, successes &amp; failu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Public and private secto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Tertiary Centres, Metropolitan, Rur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Acute care, rehabilit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ategories of Har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  No error but potentially injuriou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ircumstan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: Error occurred but did not reach th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ti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: Error reached the patient, but not harmfu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: Error not harmful but increased patien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nitor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ategories of Har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: Additional treatment or intervention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eded, temporary har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: Prolonged hospitalisation, temporary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: Permanent patient har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: Near death event (Code Blue, ICU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mission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: Death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ore Ai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To reduc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the number </a:t>
            </a:r>
            <a:r>
              <a:rPr b="0" lang="en-A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of patients who experience medication related harm during the discharge process to residential aged care facilities from 100% by December 2004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Data Colle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Initial data collection by th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C</a:t>
            </a:r>
            <a:r>
              <a:rPr b="0" lang="en-A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or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Team</a:t>
            </a:r>
            <a:r>
              <a:rPr b="0" lang="en-A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identified potential harm associated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with </a:t>
            </a:r>
            <a:r>
              <a:rPr b="0" lang="en-A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discharge from the acut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hospital </a:t>
            </a:r>
            <a:r>
              <a:rPr b="0" lang="en-A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to residential aged care faciliti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Meas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100% of patients sampled demonstrated risk of harm due to inability to seamlessly continue medication management between the two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sites</a:t>
            </a:r>
            <a:r>
              <a:rPr b="0" lang="en-A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.</a:t>
            </a:r>
            <a:r>
              <a:rPr b="0" lang="en-A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Potential for 100% harm (Category B or C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Improvement Strateg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Authority to administer medicat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or</a:t>
            </a: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 up to 4 day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Last dose administered prior to dischar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Meets APAC guidelines within aged care facilit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Provides medication information to staff of facilit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Improved communication with residential aged care facilities and GP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ged Ca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aluation of the Regional Medication Advisory Committee (MAC) (in progres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ional Safety and Quality Council – Breakthrough Collaborative - ATACC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62024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8352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The hospital proc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dical Officer to flag on discharge script using ATACC stam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harmacy generates discharge document electronicall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ursing staff contact Intern to sign discharge document and complete contact detai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ursing staff document last dos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leted document transferred with patient back to facilit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The facility proc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facility staff notify GP of patient’s return from hospit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facility notify their community pharmacy of the patient’s return from hospit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ursing staff at the facility can administer medications using discharge authorit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The GP Proc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GP assesses the patient within 4 days of return from hospital, and documents current medication for continuing treat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P can assess any significant change in patients condition and need for medication chang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Evaluation of the Regional MAC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gional MAC Goal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To establish a Regional Medication Advisory Committee to support individual site Medication Advisory Committees and to provide access to a Medication Advisory Committee to all Aged Care Facilities with in the Division, which facilitates a QUM approach across the Divis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Evaluation of the Regional MAC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act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com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rategies Evaluate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reliminary Consult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tablish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ustainabi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ctivities and success in improving Medication Manage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ttenda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898560" y="2214720"/>
          <a:ext cx="7778880" cy="388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8560" y="2214720"/>
                    <a:ext cx="7778880" cy="38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cility particip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898560" y="2214720"/>
          <a:ext cx="7778880" cy="388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8560" y="2214720"/>
                    <a:ext cx="7778880" cy="38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324480" y="4800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assiv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79440" y="4689360"/>
            <a:ext cx="176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ctiv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438280" y="4724280"/>
            <a:ext cx="1219320" cy="6098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5867280" y="4648320"/>
            <a:ext cx="457200" cy="380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95280" y="358128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o current involveme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86200"/>
            <a:ext cx="761760" cy="152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43600" y="26668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ata to be collect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4572000" y="2895480"/>
            <a:ext cx="1447920" cy="152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outcom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source Develop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003366"/>
                </a:solidFill>
                <a:latin typeface="Times New Roman"/>
              </a:rPr>
              <a:t>paper on owing scripts, recommendation </a:t>
            </a:r>
            <a:r>
              <a:rPr b="0" lang="en-A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003366"/>
                </a:solidFill>
                <a:latin typeface="Times New Roman"/>
              </a:rPr>
              <a:t>on drug chart rewrites, palliative care </a:t>
            </a:r>
            <a:r>
              <a:rPr b="0" lang="en-A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003366"/>
                </a:solidFill>
                <a:latin typeface="Times New Roman"/>
              </a:rPr>
              <a:t>resour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3366"/>
                </a:solidFill>
                <a:latin typeface="Times New Roman"/>
              </a:rPr>
              <a:t>Funding to support the facilitating position of the Regional MA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3366"/>
                </a:solidFill>
                <a:latin typeface="Times New Roman"/>
              </a:rPr>
              <a:t>Use of Regional MAC by broader provid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uture Direc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genda Items – (clinical focus) ie audi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tablish ways to work with other Regions in a meaningful way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05:52:35Z</dcterms:created>
  <dc:creator>ANEDGP</dc:creator>
  <dc:description/>
  <dc:language>en-US</dc:language>
  <cp:lastModifiedBy>ANEDGP</cp:lastModifiedBy>
  <cp:lastPrinted>2003-05-11T04:23:40Z</cp:lastPrinted>
  <dcterms:modified xsi:type="dcterms:W3CDTF">2004-11-22T05:49:50Z</dcterms:modified>
  <cp:revision>36</cp:revision>
  <dc:subject/>
  <dc:title>PowerPoint Presentation</dc:title>
</cp:coreProperties>
</file>